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2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66.png" ContentType="image/png"/>
  <Override PartName="/ppt/media/image92.wmf" ContentType="image/x-wmf"/>
  <Override PartName="/ppt/media/image75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93.wmf" ContentType="image/x-wmf"/>
  <Override PartName="/ppt/media/image73.png" ContentType="image/png"/>
  <Override PartName="/ppt/media/image87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94.png" ContentType="image/png"/>
  <Override PartName="/ppt/media/image29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75D-BAB8-40F5-B4AC-5AEB817EA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E8B-7E68-423C-9EED-75E91BFF80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771A-F07C-45B0-99F5-40F219EE7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782-681B-42A0-9619-E3E66F8EE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BB61-174B-4E22-9C1E-633823618D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56E-B38C-4585-B0A4-B47BF1AF61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1E3-77DC-46C6-8C58-A1574E220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AE5-3A72-4F6A-8783-65E42A38B4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2FF-0BF4-4AC7-BEC4-3E024EC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BE0-CDE8-4EA7-BA5A-DF89625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49C-A627-41BD-85FC-FA47C2CC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491-0BA8-422E-864E-5607BD17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0C10-1B79-4A95-B342-6579D850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DE6A-CD80-4F29-8704-802F8A2C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7D9B-D9E3-4CB7-9835-EE6B13BA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088B-FD07-4AD6-8884-261F451C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F43-FA11-4981-B0E0-B7805ED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61E5-4F17-47D2-A2F2-ED66CD97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972-08CC-4F52-8332-86E3AF97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64C-271A-484A-A089-1B8B1DFC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F73F-14D4-4E43-A68C-E25CEE9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9567-86FF-49DE-A534-2EBD5E5C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8D9E-8014-46E2-9995-4C7EDB1E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C26-4A56-4323-A976-B460A947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0647-3FC1-4773-BF4B-0B3FF824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D4AB-5AB1-4BB2-B4D3-20EA243D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8977-1396-4ACA-99BD-5BA20022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9D16-866E-4301-AF2D-5FD62E8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8C52-F503-43AA-AABB-E2D4C377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81F8-7399-43C3-8DA2-736A13C4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1CF-C151-42D6-81AF-7C213C76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6F60-1C72-4288-AEAA-B17270F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77D9-5BBE-4E41-853C-15B96A7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A2FC-80FD-48DC-ACD1-DD41C29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12CC-CBA5-4688-9458-185C7C2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85A7-9370-497D-B8A2-2B8F56B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61E2-5583-4D09-BFDA-FECD0E75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C662-2B96-4AD4-BB7D-C8C3822B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930F-8B7A-402B-BA0C-40359C7E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FB32-3146-468A-98A2-9FA70EB7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66AC-1DF9-48BD-9983-FA2B900D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11E-5A92-410F-A9D7-109026E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6925-A339-4931-87EE-9EF20DD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DA58-CB63-4859-8B3F-456D9D3C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E33D-07E0-475B-A6DD-CF9CE73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7DA5-6CAC-41FB-AB05-FEDED36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1F9C-5202-4C9A-AF31-782A507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69FA-3CA3-4F56-B758-CE457A8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7349-1C74-4D12-B3C5-A784BEEF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462F-7E6E-49B5-883A-BCA4AF5C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541C-93EE-4372-9A90-6F3CE3FB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0A2A-8461-4856-9ABD-4B4CB113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BE9-2691-4086-B56B-94463334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DE9E-FEF2-4FB8-A2C6-A570254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CE20-E8F2-4054-90E5-7A1AE3E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A6B3-7247-4DC0-838D-B3B4424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F510-E5BF-418E-B0A7-0330C8B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A67C-201D-4AB1-93D7-A27FFFC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B86B2-2F37-4686-B397-02080018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BD79-A68B-45E8-A09B-053697C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C5F6-6D5E-4D29-9E91-A484B39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4B6F-5D2F-40B1-B097-C14C8AF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13E6-4AA5-4EAD-8D34-4081EA5D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4B5-3F2B-4D2F-9580-C0C6C848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F8DE2-4F16-4267-B2AF-A284E629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F60-9ECB-4577-AEA0-9C003F4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73D-2174-4CD1-A666-A6D0F83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6BC-03D6-4880-A687-05040B21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2BB-4038-40D7-BB90-147779CF937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87E7-BC15-406A-A46E-B600BA4322C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F39-C35A-4149-B51C-574F1C49908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13E5-ACC7-4CE3-8290-06300353779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E7DD-FFBB-4C72-94F7-3459AE1C7EB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852-14A5-4424-A4A2-7F10CBA8E38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Multi-agent system for advanced information processing in medic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2209680" y="3213000"/>
            <a:ext cx="4730760" cy="2832120"/>
            <a:chOff x="2209680" y="3213000"/>
            <a:chExt cx="4730760" cy="2832120"/>
          </a:xfrm>
        </p:grpSpPr>
        <p:pic>
          <p:nvPicPr>
            <p:cNvPr id="240" name="Picture 5" descr="_x001f_Cliché 2009-06-26 12-58-25.tiff                                000BB313_x000c_Macintosh HD                   C3621A85:"/>
            <p:cNvPicPr/>
            <p:nvPr/>
          </p:nvPicPr>
          <p:blipFill>
            <a:blip r:embed="rId2"/>
            <a:stretch/>
          </p:blipFill>
          <p:spPr>
            <a:xfrm>
              <a:off x="2209680" y="3213000"/>
              <a:ext cx="4730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6559560" y="3213000"/>
              <a:ext cx="362160" cy="762840"/>
            </a:xfrm>
            <a:prstGeom prst="rect">
              <a:avLst/>
            </a:prstGeom>
            <a:solidFill>
              <a:srgbClr val="597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e result provided by the model allows the derivation of spatial and topological information about the localization and local characteristics of the brain tiss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is information is then used by the multi-agents system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ote, however, that the cortical boundary is only roughly detected, a precise delineation of the brain sulci remaining required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7839-677E-44A2-9EF0-A48701FC06B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wo classes of agents : region agents specialized for GM or for WM segmentation and edge agents specialized for the brain boundary det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agents are autonomous and simple entities implemented as C++ objects, which communicate through a shared environment and are concurrently executed under control of a schedu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ach agent is locally specialized (augmentative cooperation) and initialized at runti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Agent operate according to region growing; this implies the definition of the initial localization in the image (seed) and the behavior (parameterSpecialization) of pixel growing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dgeAgent operate according to optimum detection, based on heterogeneous information; this implies the specification of the bounds of the edge segment, the parameters of the cost function (costFunction) and a fusion function (confrontational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1C90-27C1-44C5-B9EF-610F3E4F528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447920"/>
            <a:ext cx="3749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 growing ag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itial se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Parameters: μ, 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regation criteria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-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 &lt;  I(p)  &lt;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+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33800" y="1143000"/>
            <a:ext cx="374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ntour Agent A*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sion between global and local contour detection + region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contour detection: B-spline interpolation of the signal + hysteresis thresholding to detect tiny struc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agents search for the best path (cost function c) between two extremities p1 and p2 placed on the brain boundary as assessed by the deformable mod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guaranties the conservation of global 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6FF8-50AF-4EDF-B325-C896442537C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C:\Mes Documents\Laurence\Images GIF\croissanceAgents.gif"/>
          <p:cNvPicPr/>
          <p:nvPr/>
        </p:nvPicPr>
        <p:blipFill>
          <a:blip r:embed="rId1"/>
          <a:stretch/>
        </p:blipFill>
        <p:spPr>
          <a:xfrm>
            <a:off x="533520" y="3657600"/>
            <a:ext cx="4422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560"/>
            <a:ext cx="374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Grey matter ag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eed positioning based on the knowlegd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and a statistical computation: gaussian mixture model (grey matter + CSF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8752-6296-4012-95EA-1CE07E4F399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C:\Mes Documents\Laurence\Images GIF\PositionGermesMG.gif"/>
          <p:cNvPicPr/>
          <p:nvPr/>
        </p:nvPicPr>
        <p:blipFill>
          <a:blip r:embed="rId1"/>
          <a:stretch/>
        </p:blipFill>
        <p:spPr>
          <a:xfrm>
            <a:off x="5029200" y="1066680"/>
            <a:ext cx="3522600" cy="2629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C:\Mes Documents\Laurence\Images GIF\SelectEchantMG.gif"/>
          <p:cNvPicPr/>
          <p:nvPr/>
        </p:nvPicPr>
        <p:blipFill>
          <a:blip r:embed="rId2"/>
          <a:stretch/>
        </p:blipFill>
        <p:spPr>
          <a:xfrm>
            <a:off x="5181480" y="3581280"/>
            <a:ext cx="35337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White matter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eed positioning based on knowledge model + previous grey matter detection, within non segmented are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+ mean and variance comp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Espace réservé de la date 1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Espace réservé du pied de page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2B19-777A-4562-AE13-B865AF22E8C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C:\Mes Documents\Laurence\Images GIF\SelectEchantMB.gif"/>
          <p:cNvPicPr/>
          <p:nvPr/>
        </p:nvPicPr>
        <p:blipFill>
          <a:blip r:embed="rId1"/>
          <a:stretch/>
        </p:blipFill>
        <p:spPr>
          <a:xfrm>
            <a:off x="4800600" y="1752480"/>
            <a:ext cx="416556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Contour detection ag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Goal: refine initial brain deline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pproach: fusion between global and local contour detection + region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rinciple: dynamical program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CD2-B53D-40EC-BC17-EA0F4798A58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C:\Mes Documents\Laurence\Images GIF\Chek643.gif"/>
          <p:cNvPicPr/>
          <p:nvPr/>
        </p:nvPicPr>
        <p:blipFill>
          <a:blip r:embed="rId1"/>
          <a:stretch/>
        </p:blipFill>
        <p:spPr>
          <a:xfrm>
            <a:off x="5638680" y="1600200"/>
            <a:ext cx="2197080" cy="2332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Mes Documents\Laurence\Images GIF\res643.gif"/>
          <p:cNvPicPr/>
          <p:nvPr/>
        </p:nvPicPr>
        <p:blipFill>
          <a:blip r:embed="rId2"/>
          <a:stretch/>
        </p:blipFill>
        <p:spPr>
          <a:xfrm>
            <a:off x="5791320" y="3962520"/>
            <a:ext cx="1969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2392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560" y="2971440"/>
            <a:ext cx="374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Issues: coherence of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ake advantage of the coherence and complementarity that exists between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62D-F6A1-4DC5-9B36-BFBA315FB35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9" descr="C:\Mes Documents\Laurence\Images GIF\Superpos643.gif"/>
          <p:cNvPicPr/>
          <p:nvPr/>
        </p:nvPicPr>
        <p:blipFill>
          <a:blip r:embed="rId1"/>
          <a:stretch/>
        </p:blipFill>
        <p:spPr>
          <a:xfrm>
            <a:off x="4741920" y="2090880"/>
            <a:ext cx="3932280" cy="4171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Mes Documents\Laurence\Images GIF\Superpos643Zoom.gif"/>
          <p:cNvPicPr/>
          <p:nvPr/>
        </p:nvPicPr>
        <p:blipFill>
          <a:blip r:embed="rId2"/>
          <a:stretch/>
        </p:blipFill>
        <p:spPr>
          <a:xfrm>
            <a:off x="3632040" y="784080"/>
            <a:ext cx="1965600" cy="2084400"/>
          </a:xfrm>
          <a:prstGeom prst="rect">
            <a:avLst/>
          </a:prstGeom>
          <a:ln w="0">
            <a:noFill/>
          </a:ln>
        </p:spPr>
      </p:pic>
      <p:sp>
        <p:nvSpPr>
          <p:cNvPr id="380" name="Line 11"/>
          <p:cNvSpPr/>
          <p:nvPr/>
        </p:nvSpPr>
        <p:spPr>
          <a:xfrm>
            <a:off x="5603760" y="784080"/>
            <a:ext cx="1108080" cy="20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5603760" y="280836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3"/>
          <p:cNvSpPr/>
          <p:nvPr/>
        </p:nvSpPr>
        <p:spPr>
          <a:xfrm flipH="1" flipV="1">
            <a:off x="3631680" y="2873160"/>
            <a:ext cx="1971720" cy="13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066320"/>
            <a:ext cx="374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zzy combination performed from the distance maps (Chamfer distanc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st function fi(p) for each pixel 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= (β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+ γ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) /(β+γ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With βand γ weights, to account for the difference in precision between the two information sour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GM/CSF interface based on region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edge provided by the edge detecto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7EB-02DD-476E-B6B7-260D41A5CC1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9" descr="C:\Mes Documents\Laurence\Images GIF\toto.gif"/>
          <p:cNvPicPr/>
          <p:nvPr/>
        </p:nvPicPr>
        <p:blipFill>
          <a:blip r:embed="rId1"/>
          <a:stretch/>
        </p:blipFill>
        <p:spPr>
          <a:xfrm>
            <a:off x="4724280" y="1676520"/>
            <a:ext cx="3932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5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detected by the edge agents can be used as a replacement of the initial boundary detected by the deformable model, refining the initial contou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step uses confrontational cooperation: the initial model-based information is replaced by the newly computed one, judged more accur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whole segmentation process may then be launched ag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troaction on an adjacent slice in the image volume (2,5D processing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BEA5-0A7A-484A-BAE2-810E246E79A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1" descr="A:\retro643.gif"/>
          <p:cNvPicPr/>
          <p:nvPr/>
        </p:nvPicPr>
        <p:blipFill>
          <a:blip r:embed="rId1"/>
          <a:stretch/>
        </p:blipFill>
        <p:spPr>
          <a:xfrm>
            <a:off x="4437000" y="1447920"/>
            <a:ext cx="435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7179"/>
          <p:cNvGrpSpPr/>
          <p:nvPr/>
        </p:nvGrpSpPr>
        <p:grpSpPr>
          <a:xfrm>
            <a:off x="5334120" y="1327320"/>
            <a:ext cx="2743200" cy="5346360"/>
            <a:chOff x="5334120" y="1327320"/>
            <a:chExt cx="2743200" cy="5346360"/>
          </a:xfrm>
        </p:grpSpPr>
        <p:grpSp>
          <p:nvGrpSpPr>
            <p:cNvPr id="396" name="Group 7180"/>
            <p:cNvGrpSpPr/>
            <p:nvPr/>
          </p:nvGrpSpPr>
          <p:grpSpPr>
            <a:xfrm>
              <a:off x="5372280" y="4876920"/>
              <a:ext cx="2685960" cy="1757880"/>
              <a:chOff x="5372280" y="4876920"/>
              <a:chExt cx="2685960" cy="1757880"/>
            </a:xfrm>
          </p:grpSpPr>
          <p:graphicFrame>
            <p:nvGraphicFramePr>
              <p:cNvPr id="397" name=""/>
              <p:cNvGraphicFramePr/>
              <p:nvPr/>
            </p:nvGraphicFramePr>
            <p:xfrm>
              <a:off x="5372280" y="4996080"/>
              <a:ext cx="2685960" cy="1608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72280" y="4996080"/>
                        <a:ext cx="2685960" cy="160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9" name="Text Box 7182"/>
              <p:cNvSpPr/>
              <p:nvPr/>
            </p:nvSpPr>
            <p:spPr>
              <a:xfrm>
                <a:off x="7297560" y="64342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Text Box 7183"/>
              <p:cNvSpPr/>
              <p:nvPr/>
            </p:nvSpPr>
            <p:spPr>
              <a:xfrm>
                <a:off x="6398280" y="487692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7184"/>
              <p:cNvSpPr/>
              <p:nvPr/>
            </p:nvSpPr>
            <p:spPr>
              <a:xfrm>
                <a:off x="6737400" y="487692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7185"/>
              <p:cNvSpPr/>
              <p:nvPr/>
            </p:nvSpPr>
            <p:spPr>
              <a:xfrm rot="16200000">
                <a:off x="5222880" y="517968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186"/>
            <p:cNvGrpSpPr/>
            <p:nvPr/>
          </p:nvGrpSpPr>
          <p:grpSpPr>
            <a:xfrm>
              <a:off x="5372280" y="3227400"/>
              <a:ext cx="2704680" cy="1649520"/>
              <a:chOff x="5372280" y="3227400"/>
              <a:chExt cx="2704680" cy="1649520"/>
            </a:xfrm>
          </p:grpSpPr>
          <p:graphicFrame>
            <p:nvGraphicFramePr>
              <p:cNvPr id="404" name=""/>
              <p:cNvGraphicFramePr/>
              <p:nvPr/>
            </p:nvGraphicFramePr>
            <p:xfrm>
              <a:off x="5372280" y="3351240"/>
              <a:ext cx="2704680" cy="145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72280" y="3351240"/>
                        <a:ext cx="2704680" cy="14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6" name="Text Box 7188"/>
              <p:cNvSpPr/>
              <p:nvPr/>
            </p:nvSpPr>
            <p:spPr>
              <a:xfrm>
                <a:off x="7309440" y="467640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7189"/>
              <p:cNvSpPr/>
              <p:nvPr/>
            </p:nvSpPr>
            <p:spPr>
              <a:xfrm rot="16200000">
                <a:off x="5218200" y="34254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7190"/>
              <p:cNvSpPr/>
              <p:nvPr/>
            </p:nvSpPr>
            <p:spPr>
              <a:xfrm>
                <a:off x="6725160" y="359424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7191"/>
              <p:cNvSpPr/>
              <p:nvPr/>
            </p:nvSpPr>
            <p:spPr>
              <a:xfrm>
                <a:off x="7067520" y="322740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7192"/>
            <p:cNvGrpSpPr/>
            <p:nvPr/>
          </p:nvGrpSpPr>
          <p:grpSpPr>
            <a:xfrm>
              <a:off x="5372280" y="1371600"/>
              <a:ext cx="2685960" cy="4994280"/>
              <a:chOff x="5372280" y="1371600"/>
              <a:chExt cx="2685960" cy="4994280"/>
            </a:xfrm>
          </p:grpSpPr>
          <p:graphicFrame>
            <p:nvGraphicFramePr>
              <p:cNvPr id="411" name=""/>
              <p:cNvGraphicFramePr/>
              <p:nvPr/>
            </p:nvGraphicFramePr>
            <p:xfrm>
              <a:off x="5372280" y="1371600"/>
              <a:ext cx="2685960" cy="155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72280" y="1371600"/>
                        <a:ext cx="2685960" cy="155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3" name="Line 7194"/>
              <p:cNvSpPr/>
              <p:nvPr/>
            </p:nvSpPr>
            <p:spPr>
              <a:xfrm>
                <a:off x="6964200" y="1859040"/>
                <a:ext cx="0" cy="449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7195"/>
              <p:cNvSpPr/>
              <p:nvPr/>
            </p:nvSpPr>
            <p:spPr>
              <a:xfrm>
                <a:off x="7305840" y="1859040"/>
                <a:ext cx="0" cy="450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7196"/>
              <p:cNvSpPr/>
              <p:nvPr/>
            </p:nvSpPr>
            <p:spPr>
              <a:xfrm>
                <a:off x="6622920" y="1859040"/>
                <a:ext cx="20880" cy="449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7197"/>
              <p:cNvSpPr/>
              <p:nvPr/>
            </p:nvSpPr>
            <p:spPr>
              <a:xfrm>
                <a:off x="7281720" y="27478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7198"/>
              <p:cNvSpPr/>
              <p:nvPr/>
            </p:nvSpPr>
            <p:spPr>
              <a:xfrm rot="16200000">
                <a:off x="5222880" y="15552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Rectangle 7199"/>
            <p:cNvSpPr/>
            <p:nvPr/>
          </p:nvSpPr>
          <p:spPr>
            <a:xfrm>
              <a:off x="5334120" y="4921200"/>
              <a:ext cx="2743200" cy="1752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7200"/>
            <p:cNvSpPr/>
            <p:nvPr/>
          </p:nvSpPr>
          <p:spPr>
            <a:xfrm>
              <a:off x="5334120" y="3124080"/>
              <a:ext cx="2743200" cy="1752840"/>
            </a:xfrm>
            <a:prstGeom prst="rect">
              <a:avLst/>
            </a:prstGeom>
            <a:noFill/>
            <a:ln w="2844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201"/>
            <p:cNvSpPr/>
            <p:nvPr/>
          </p:nvSpPr>
          <p:spPr>
            <a:xfrm>
              <a:off x="5334120" y="1327320"/>
              <a:ext cx="274320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4114800"/>
            <a:ext cx="374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. Scherrer, M. Dojat, F. Forbes, C. Garbay, Agentification of Markov model-based segmentation: Application to magnetic resonance brain scans, Artificial Intelligence in Medicine 46(1): 81-95 (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Espace réservé de la date 2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Espace réservé du pied de page 3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Espace réservé du numéro de diapositive 3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029F-1E5D-4B40-80EF-0AD7CA76CCE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3" descr="D:\Mes Documents\These\ProjetLOCUS\Documents\Mémoire\chapter4\imgs\partitioning.png"/>
          <p:cNvPicPr/>
          <p:nvPr/>
        </p:nvPicPr>
        <p:blipFill>
          <a:blip r:embed="rId7"/>
          <a:stretch/>
        </p:blipFill>
        <p:spPr>
          <a:xfrm>
            <a:off x="1523880" y="1447920"/>
            <a:ext cx="2895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Multi-agent system for advanced information processing in medic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 – Image Processing: a decentralized vie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I – Multi-agent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fb05a"/>
                </a:solidFill>
                <a:latin typeface="Perpetua"/>
              </a:rPr>
              <a:t>Part III – A Cooperative Framework for Brain MRI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V – Ambient Intelligence: the case of monitor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 – Normative Multi-Agent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 – Abductive Agents for Human Activity Monito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I – Evaluative Exper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54A2-D2E0-45C6-B9ED-6C9433E05BA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-852480" y="5769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2824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segmentation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estimate local intensity model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Segmentation: 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introduce  knowledge based on Fuzzy Spatial Relation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Markovian segmentation framework for a robust to noise segmentation,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ithout any bias field modelizati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nd Structure segmentation are linked and mutually improve (integr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C93-C738-45CB-B1A5-945BD42F3DC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lèche courbée vers la droite 56"/>
          <p:cNvSpPr/>
          <p:nvPr/>
        </p:nvSpPr>
        <p:spPr>
          <a:xfrm rot="10800000">
            <a:off x="8229240" y="2133720"/>
            <a:ext cx="685800" cy="2643120"/>
          </a:xfrm>
          <a:custGeom>
            <a:avLst/>
            <a:gdLst>
              <a:gd name="textAreaLeft" fmla="*/ 91800 w 685800"/>
              <a:gd name="textAreaRight" fmla="*/ 594000 w 685800"/>
              <a:gd name="textAreaTop" fmla="*/ 528480 h 2643120"/>
              <a:gd name="textAreaBottom" fmla="*/ 17575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0" stAng="-5400000" swAng="-5400000"/>
                <a:lnTo>
                  <a:pt x="0" y="10043"/>
                </a:lnTo>
                <a:arcTo wR="21600" hR="8640" stAng="10800000" swAng="-3429472"/>
                <a:lnTo>
                  <a:pt x="16200" y="21326"/>
                </a:lnTo>
                <a:lnTo>
                  <a:pt x="21600" y="17982"/>
                </a:lnTo>
                <a:lnTo>
                  <a:pt x="16200" y="14089"/>
                </a:lnTo>
                <a:lnTo>
                  <a:pt x="16200" y="17006"/>
                </a:lnTo>
                <a:arcTo wR="21600" hR="8640" stAng="7370528" swAng="3317495"/>
                <a:lnTo>
                  <a:pt x="71" y="9342"/>
                </a:lnTo>
                <a:arcTo wR="21600" hR="8640" stAng="-10688023" swAng="5288023"/>
                <a:close/>
              </a:path>
              <a:path fill="darkenLess" w="21600" h="21600">
                <a:moveTo>
                  <a:pt x="21600" y="0"/>
                </a:moveTo>
                <a:arcTo wR="21600" hR="8640" stAng="-5400000" swAng="-5400000"/>
                <a:lnTo>
                  <a:pt x="0" y="8640"/>
                </a:lnTo>
                <a:arcTo wR="21600" hR="8640" stAng="10800000" swAng="-111977"/>
                <a:lnTo>
                  <a:pt x="71" y="9342"/>
                </a:lnTo>
                <a:arcTo wR="21600" hR="8640" stAng="-10688023" swAng="5288023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lèche courbée vers la droite 56"/>
          <p:cNvSpPr/>
          <p:nvPr/>
        </p:nvSpPr>
        <p:spPr>
          <a:xfrm>
            <a:off x="4572000" y="2286000"/>
            <a:ext cx="657360" cy="2643120"/>
          </a:xfrm>
          <a:custGeom>
            <a:avLst/>
            <a:gdLst>
              <a:gd name="textAreaLeft" fmla="*/ 87840 w 657360"/>
              <a:gd name="textAreaRight" fmla="*/ 569520 w 657360"/>
              <a:gd name="textAreaTop" fmla="*/ 533880 h 2643120"/>
              <a:gd name="textAreaBottom" fmla="*/ 17668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0" stAng="-5400000" swAng="-5400000"/>
                <a:lnTo>
                  <a:pt x="0" y="10075"/>
                </a:lnTo>
                <a:arcTo wR="21600" hR="8730" stAng="10800000" swAng="-3445670"/>
                <a:lnTo>
                  <a:pt x="16200" y="21323"/>
                </a:lnTo>
                <a:lnTo>
                  <a:pt x="21600" y="18133"/>
                </a:lnTo>
                <a:lnTo>
                  <a:pt x="16200" y="14388"/>
                </a:lnTo>
                <a:lnTo>
                  <a:pt x="16200" y="17183"/>
                </a:lnTo>
                <a:arcTo wR="21600" hR="8730" stAng="7354330" swAng="3338354"/>
                <a:lnTo>
                  <a:pt x="64" y="9402"/>
                </a:lnTo>
                <a:arcTo wR="21600" hR="8730" stAng="-10692684" swAng="5292684"/>
                <a:close/>
              </a:path>
              <a:path fill="darkenLess" w="21600" h="21600">
                <a:moveTo>
                  <a:pt x="21600" y="0"/>
                </a:moveTo>
                <a:arcTo wR="21600" hR="8730" stAng="-5400000" swAng="-5400000"/>
                <a:lnTo>
                  <a:pt x="0" y="8730"/>
                </a:lnTo>
                <a:arcTo wR="21600" hR="8730" stAng="10800000" swAng="-107316"/>
                <a:lnTo>
                  <a:pt x="64" y="9402"/>
                </a:lnTo>
                <a:arcTo wR="21600" hR="8730" stAng="-10692684" swAng="529268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8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797200" cy="190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D:\Mes Documents\These\ProjetLOCUS\Documents\Publications\MICCAI2007\imgs\bw_struct3d.png"/>
          <p:cNvPicPr/>
          <p:nvPr/>
        </p:nvPicPr>
        <p:blipFill>
          <a:blip r:embed="rId2"/>
          <a:stretch/>
        </p:blipFill>
        <p:spPr>
          <a:xfrm>
            <a:off x="5791320" y="3733920"/>
            <a:ext cx="152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80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0" name="Picture 1028" descr="_x0008_Fig3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533520" y="1160640"/>
            <a:ext cx="8259480" cy="4663800"/>
          </a:xfrm>
          <a:prstGeom prst="rect">
            <a:avLst/>
          </a:prstGeom>
          <a:ln w="0">
            <a:noFill/>
          </a:ln>
        </p:spPr>
      </p:pic>
      <p:sp>
        <p:nvSpPr>
          <p:cNvPr id="44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260-2AB3-4CCA-8A16-9025B5D5DE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gents (CSF, GM, WM) estimate local intensity mod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ructure agents (Frontal Horn, Caudate Nucleus…) use fuzzy spatial knowledge and perform fuzzy structure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or each agent : a local MRF model (augmentative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operation mechanisms between agent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front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Tissue Agents to build local but consistent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tructure Agents: to build and update the spatial relation map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gr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Structure Agents: Each structure is composed of a tissue: tissue agents provide tissue intensity models to structure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 Tissue Agents : Feedback of structure segmentation on Tissue seg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9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B24-AAF8-4589-83BE-55F5DA404E0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2" descr=""/>
          <p:cNvPicPr/>
          <p:nvPr/>
        </p:nvPicPr>
        <p:blipFill>
          <a:blip r:embed="rId1"/>
          <a:stretch/>
        </p:blipFill>
        <p:spPr>
          <a:xfrm>
            <a:off x="923760" y="1557360"/>
            <a:ext cx="3143520" cy="900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1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592360" cy="1162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3"/>
          <p:cNvSpPr/>
          <p:nvPr/>
        </p:nvSpPr>
        <p:spPr>
          <a:xfrm>
            <a:off x="71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71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3"/>
          <a:stretch/>
        </p:blipFill>
        <p:spPr>
          <a:xfrm>
            <a:off x="898560" y="3809880"/>
            <a:ext cx="3305160" cy="951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7" descr=""/>
          <p:cNvPicPr/>
          <p:nvPr/>
        </p:nvPicPr>
        <p:blipFill>
          <a:blip r:embed="rId4"/>
          <a:stretch/>
        </p:blipFill>
        <p:spPr>
          <a:xfrm>
            <a:off x="828720" y="4727520"/>
            <a:ext cx="3541680" cy="13478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9"/>
          <p:cNvSpPr/>
          <p:nvPr/>
        </p:nvSpPr>
        <p:spPr>
          <a:xfrm>
            <a:off x="712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12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4193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mportance of subvolumes s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40x40x40 voxels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ood representation of tissue classes to ensure a reliable model estima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Not really local, so sensitive to inhomogeneit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10x10x10 vox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re local, so more robust to inhomogeneiti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But under-representation of tissue classes to ensure a reliable model esti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Espace réservé de la date 2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Espace réservé du pied de page 2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Espace réservé du numéro de diapositive 18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5799-B068-4BC3-A945-5DD8F98AB23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Espace réservé de la date 2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Espace réservé du pied de page 2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42BF-375B-458A-BE45-82134AAB287F}" type="slidenum"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31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384720" cy="18288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27"/>
          <p:cNvSpPr/>
          <p:nvPr/>
        </p:nvSpPr>
        <p:spPr>
          <a:xfrm>
            <a:off x="4191120" y="2209680"/>
            <a:ext cx="68580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8"/>
          <p:cNvSpPr/>
          <p:nvPr/>
        </p:nvSpPr>
        <p:spPr>
          <a:xfrm>
            <a:off x="179280" y="1123920"/>
            <a:ext cx="4214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4680000" y="1123920"/>
            <a:ext cx="4321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33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100160" cy="1317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4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130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5"/>
          <p:cNvSpPr/>
          <p:nvPr/>
        </p:nvSpPr>
        <p:spPr>
          <a:xfrm>
            <a:off x="457200" y="1295280"/>
            <a:ext cx="358128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issue Agents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0 to 1500 local agents) working over sub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cal markovian segmentation with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=3 {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CR, MG, MB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neighbouring tissue agents, to preserve global consistency of local intensity models, and with structure agents, to benefit from dynamically computed  anatomical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105520" y="1295280"/>
            <a:ext cx="359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ucture agents (9 agents) working over spati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kovian segmentation with K=2 (structure/non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tissue agents to compute their intensity models, and with structure agents to build and update their ow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2600">
              <a:spcBef>
                <a:spcPts val="451"/>
              </a:spcBef>
              <a:buClr>
                <a:srgbClr val="e9e5d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7" descr=""/>
          <p:cNvPicPr/>
          <p:nvPr/>
        </p:nvPicPr>
        <p:blipFill>
          <a:blip r:embed="rId4"/>
          <a:stretch/>
        </p:blipFill>
        <p:spPr>
          <a:xfrm>
            <a:off x="6400800" y="5029200"/>
            <a:ext cx="6332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ce réservé de la date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Espace réservé du pied de page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01E7-F06E-4758-8BB2-7AC67DFC8FE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3" descr="_x0008_Fig1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685800" y="179280"/>
            <a:ext cx="77724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ation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bels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rform the image segmentation (tissues) : maximize over z the prob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atial dependencies between voxels, providing a labeling regularization and a robust to noise seg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priori knowledge of the brain spatial organ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-Based algorith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83A-78DE-4632-8045-93A14398005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124080" y="1219320"/>
          <a:ext cx="128124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19320"/>
                    <a:ext cx="128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5638680" y="1219320"/>
          <a:ext cx="13525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219320"/>
                    <a:ext cx="1352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32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6429600" cy="513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7"/>
          <p:cNvSpPr/>
          <p:nvPr/>
        </p:nvSpPr>
        <p:spPr>
          <a:xfrm>
            <a:off x="3657600" y="5029200"/>
            <a:ext cx="1905120" cy="58068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 regularizatio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9"/>
          <p:cNvSpPr/>
          <p:nvPr/>
        </p:nvSpPr>
        <p:spPr>
          <a:xfrm>
            <a:off x="609480" y="4876920"/>
            <a:ext cx="2843280" cy="106740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 field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 posteriori probabilities of overl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30" descr=""/>
          <p:cNvPicPr/>
          <p:nvPr/>
        </p:nvPicPr>
        <p:blipFill>
          <a:blip r:embed="rId6"/>
          <a:stretch/>
        </p:blipFill>
        <p:spPr>
          <a:xfrm>
            <a:off x="1905120" y="4114800"/>
            <a:ext cx="5925960" cy="7491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5791320" y="5029200"/>
            <a:ext cx="2257200" cy="82404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riven term, based on intensities gaussi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6690960" y="4686480"/>
            <a:ext cx="1429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7"/>
          <p:cNvSpPr/>
          <p:nvPr/>
        </p:nvSpPr>
        <p:spPr>
          <a:xfrm flipV="1">
            <a:off x="3262320" y="468648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 flipV="1">
            <a:off x="5262480" y="468648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8" descr=""/>
          <p:cNvPicPr/>
          <p:nvPr/>
        </p:nvPicPr>
        <p:blipFill>
          <a:blip r:embed="rId1"/>
          <a:stretch/>
        </p:blipFill>
        <p:spPr>
          <a:xfrm>
            <a:off x="6585120" y="3683160"/>
            <a:ext cx="1239840" cy="1049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9" descr=""/>
          <p:cNvPicPr/>
          <p:nvPr/>
        </p:nvPicPr>
        <p:blipFill>
          <a:blip r:embed="rId2"/>
          <a:stretch/>
        </p:blipFill>
        <p:spPr>
          <a:xfrm>
            <a:off x="7299360" y="4325760"/>
            <a:ext cx="1249200" cy="1170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7"/>
          <p:cNvSpPr/>
          <p:nvPr/>
        </p:nvSpPr>
        <p:spPr>
          <a:xfrm rot="2881200">
            <a:off x="6546240" y="4750200"/>
            <a:ext cx="987480" cy="214560"/>
          </a:xfrm>
          <a:prstGeom prst="rightArrow">
            <a:avLst>
              <a:gd name="adj1" fmla="val 50000"/>
              <a:gd name="adj2" fmla="val 114206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and cooperative EM Algorith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hecking: compute a local mean model over  neighbou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orrection : if necessary,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corrected model from a linear combination of estimated  and mean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Interpola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one intensity model per voxel with cubic-spline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sures smooth model variation between neighbo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ndles nonuniformity of intensity inside each ag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cal easy-to-segment subvolumes converge quickly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owing the system to focus on other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Espace réservé du pied de pag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1CB0-2DC2-4A35-9D26-37272C07931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à coins arrondis 33"/>
          <p:cNvSpPr/>
          <p:nvPr/>
        </p:nvSpPr>
        <p:spPr>
          <a:xfrm>
            <a:off x="3071880" y="1071720"/>
            <a:ext cx="4929120" cy="464328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à coins arrondis 32"/>
          <p:cNvSpPr/>
          <p:nvPr/>
        </p:nvSpPr>
        <p:spPr>
          <a:xfrm>
            <a:off x="2857680" y="1214280"/>
            <a:ext cx="5429160" cy="47149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à coins arrondis 31"/>
          <p:cNvSpPr/>
          <p:nvPr/>
        </p:nvSpPr>
        <p:spPr>
          <a:xfrm>
            <a:off x="2643120" y="1357200"/>
            <a:ext cx="5857920" cy="46436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Espace réservé de la date 4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Espace réservé du pied de page 4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9B4-A733-4CDD-959D-ED1F5F2B8EB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à coins arrondis 25"/>
          <p:cNvSpPr/>
          <p:nvPr/>
        </p:nvSpPr>
        <p:spPr>
          <a:xfrm>
            <a:off x="2428920" y="1500120"/>
            <a:ext cx="6215040" cy="50720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à coins arrondis 102"/>
          <p:cNvSpPr/>
          <p:nvPr/>
        </p:nvSpPr>
        <p:spPr>
          <a:xfrm>
            <a:off x="2714760" y="3071880"/>
            <a:ext cx="5786280" cy="335736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Text Box 10"/>
          <p:cNvGrpSpPr/>
          <p:nvPr/>
        </p:nvGrpSpPr>
        <p:grpSpPr>
          <a:xfrm>
            <a:off x="3187800" y="1560600"/>
            <a:ext cx="2049480" cy="390600"/>
            <a:chOff x="3187800" y="1560600"/>
            <a:chExt cx="2049480" cy="390600"/>
          </a:xfrm>
        </p:grpSpPr>
        <p:pic>
          <p:nvPicPr>
            <p:cNvPr id="512" name="Text Box 10" descr=""/>
            <p:cNvPicPr/>
            <p:nvPr/>
          </p:nvPicPr>
          <p:blipFill>
            <a:blip r:embed="rId1"/>
            <a:stretch/>
          </p:blipFill>
          <p:spPr>
            <a:xfrm>
              <a:off x="3187800" y="1560600"/>
              <a:ext cx="2049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214800" y="159084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nt 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à coins arrondis 34"/>
          <p:cNvSpPr/>
          <p:nvPr/>
        </p:nvSpPr>
        <p:spPr>
          <a:xfrm>
            <a:off x="533520" y="1752480"/>
            <a:ext cx="990360" cy="990720"/>
          </a:xfrm>
          <a:custGeom>
            <a:avLst/>
            <a:gdLst>
              <a:gd name="textAreaLeft" fmla="*/ 54720 w 990360"/>
              <a:gd name="textAreaRight" fmla="*/ 935640 w 990360"/>
              <a:gd name="textAreaTop" fmla="*/ 54720 h 990720"/>
              <a:gd name="textAreaBottom" fmla="*/ 936000 h 990720"/>
            </a:gdLst>
            <a:ahLst/>
            <a:rect l="textAreaLeft" t="textAreaTop" r="textAreaRight" b="textAreaBottom"/>
            <a:pathLst>
              <a:path w="21600" h="21608">
                <a:moveTo>
                  <a:pt x="4091" y="0"/>
                </a:moveTo>
                <a:arcTo wR="4091" hR="4091" stAng="16200000" swAng="-5400000"/>
                <a:lnTo>
                  <a:pt x="0" y="17517"/>
                </a:lnTo>
                <a:arcTo wR="4091" hR="4091" stAng="10800000" swAng="-5400000"/>
                <a:lnTo>
                  <a:pt x="17509" y="21608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ogner un rectangle avec un coin diagonal 48"/>
          <p:cNvSpPr/>
          <p:nvPr/>
        </p:nvSpPr>
        <p:spPr>
          <a:xfrm>
            <a:off x="3929040" y="2071800"/>
            <a:ext cx="3429000" cy="357120"/>
          </a:xfrm>
          <a:prstGeom prst="pie">
            <a:avLst/>
          </a:prstGeom>
          <a:solidFill>
            <a:srgbClr val="d0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Text Box 10"/>
          <p:cNvGrpSpPr/>
          <p:nvPr/>
        </p:nvGrpSpPr>
        <p:grpSpPr>
          <a:xfrm>
            <a:off x="6900840" y="5688000"/>
            <a:ext cx="1548000" cy="633600"/>
            <a:chOff x="6900840" y="5688000"/>
            <a:chExt cx="1548000" cy="633600"/>
          </a:xfrm>
        </p:grpSpPr>
        <p:pic>
          <p:nvPicPr>
            <p:cNvPr id="517" name="Text Box 10" descr=""/>
            <p:cNvPicPr/>
            <p:nvPr/>
          </p:nvPicPr>
          <p:blipFill>
            <a:blip r:embed="rId2"/>
            <a:stretch/>
          </p:blipFill>
          <p:spPr>
            <a:xfrm>
              <a:off x="6900840" y="5688000"/>
              <a:ext cx="1548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6929280" y="571500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Connecteur en arc 52"/>
          <p:cNvCxnSpPr/>
          <p:nvPr/>
        </p:nvCxnSpPr>
        <p:spPr>
          <a:xfrm>
            <a:off x="6572160" y="600084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20" name="Text Box 10"/>
          <p:cNvGrpSpPr/>
          <p:nvPr/>
        </p:nvGrpSpPr>
        <p:grpSpPr>
          <a:xfrm>
            <a:off x="6114960" y="2541600"/>
            <a:ext cx="1766880" cy="390600"/>
            <a:chOff x="6114960" y="2541600"/>
            <a:chExt cx="1766880" cy="390600"/>
          </a:xfrm>
        </p:grpSpPr>
        <p:pic>
          <p:nvPicPr>
            <p:cNvPr id="521" name="Text Box 10" descr=""/>
            <p:cNvPicPr/>
            <p:nvPr/>
          </p:nvPicPr>
          <p:blipFill>
            <a:blip r:embed="rId3"/>
            <a:stretch/>
          </p:blipFill>
          <p:spPr>
            <a:xfrm>
              <a:off x="6114960" y="2541600"/>
              <a:ext cx="1766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6143760" y="25718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Forme libre 89"/>
          <p:cNvSpPr/>
          <p:nvPr/>
        </p:nvSpPr>
        <p:spPr>
          <a:xfrm>
            <a:off x="7072200" y="1785960"/>
            <a:ext cx="1322640" cy="39258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nnecteur droit 91"/>
          <p:cNvSpPr/>
          <p:nvPr/>
        </p:nvSpPr>
        <p:spPr>
          <a:xfrm>
            <a:off x="7072200" y="2073240"/>
            <a:ext cx="1800" cy="426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Connecteur droit avec flèche 93"/>
          <p:cNvCxnSpPr/>
          <p:nvPr/>
        </p:nvCxnSpPr>
        <p:spPr>
          <a:xfrm flipH="1">
            <a:off x="7071480" y="2428560"/>
            <a:ext cx="25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Connecteur droit 97"/>
          <p:cNvSpPr/>
          <p:nvPr/>
        </p:nvSpPr>
        <p:spPr>
          <a:xfrm flipH="1">
            <a:off x="4642920" y="1928880"/>
            <a:ext cx="18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nnecteur droit 99"/>
          <p:cNvSpPr/>
          <p:nvPr/>
        </p:nvSpPr>
        <p:spPr>
          <a:xfrm flipH="1">
            <a:off x="4642920" y="207180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Connecteur droit avec flèche 101"/>
          <p:cNvCxnSpPr/>
          <p:nvPr/>
        </p:nvCxnSpPr>
        <p:spPr>
          <a:xfrm flipH="1">
            <a:off x="4642560" y="242892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Connecteur droit avec flèche 105"/>
          <p:cNvCxnSpPr/>
          <p:nvPr/>
        </p:nvCxnSpPr>
        <p:spPr>
          <a:xfrm flipH="1">
            <a:off x="7000560" y="2911320"/>
            <a:ext cx="2160" cy="16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Connecteur droit avec flèche 107"/>
          <p:cNvCxnSpPr/>
          <p:nvPr/>
        </p:nvCxnSpPr>
        <p:spPr>
          <a:xfrm flipV="1">
            <a:off x="6858000" y="2428200"/>
            <a:ext cx="216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1" name="Flèche courbée vers la gauche 108"/>
          <p:cNvSpPr/>
          <p:nvPr/>
        </p:nvSpPr>
        <p:spPr>
          <a:xfrm flipV="1" rot="1210200">
            <a:off x="8569080" y="4953600"/>
            <a:ext cx="569880" cy="1071360"/>
          </a:xfrm>
          <a:custGeom>
            <a:avLst/>
            <a:gdLst>
              <a:gd name="textAreaLeft" fmla="*/ 76320 w 569880"/>
              <a:gd name="textAreaRight" fmla="*/ 493560 w 569880"/>
              <a:gd name="textAreaTop" fmla="*/ 184320 h 1071360"/>
              <a:gd name="textAreaBottom" fmla="*/ 61164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èche courbée vers la gauche 109"/>
          <p:cNvSpPr/>
          <p:nvPr/>
        </p:nvSpPr>
        <p:spPr>
          <a:xfrm flipV="1" rot="8542800">
            <a:off x="2099520" y="3783960"/>
            <a:ext cx="569880" cy="1071720"/>
          </a:xfrm>
          <a:custGeom>
            <a:avLst/>
            <a:gdLst>
              <a:gd name="textAreaLeft" fmla="*/ 76320 w 569880"/>
              <a:gd name="textAreaRight" fmla="*/ 493560 w 569880"/>
              <a:gd name="textAreaTop" fmla="*/ 183600 h 1071720"/>
              <a:gd name="textAreaBottom" fmla="*/ 611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lèche vers le haut 111"/>
          <p:cNvSpPr/>
          <p:nvPr/>
        </p:nvSpPr>
        <p:spPr>
          <a:xfrm rot="5400000">
            <a:off x="2571840" y="1142640"/>
            <a:ext cx="357120" cy="2214720"/>
          </a:xfrm>
          <a:prstGeom prst="upArrow">
            <a:avLst>
              <a:gd name="adj1" fmla="val 23333"/>
              <a:gd name="adj2" fmla="val 36664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ZoneTexte 112"/>
          <p:cNvSpPr/>
          <p:nvPr/>
        </p:nvSpPr>
        <p:spPr>
          <a:xfrm>
            <a:off x="500040" y="1790640"/>
            <a:ext cx="9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lèche courbée vers la gauche 113"/>
          <p:cNvSpPr/>
          <p:nvPr/>
        </p:nvSpPr>
        <p:spPr>
          <a:xfrm rot="1784400">
            <a:off x="8100720" y="1303200"/>
            <a:ext cx="438120" cy="1384560"/>
          </a:xfrm>
          <a:custGeom>
            <a:avLst/>
            <a:gdLst>
              <a:gd name="textAreaLeft" fmla="*/ 58680 w 438120"/>
              <a:gd name="textAreaRight" fmla="*/ 379440 w 438120"/>
              <a:gd name="textAreaTop" fmla="*/ 281520 h 1384560"/>
              <a:gd name="textAreaBottom" fmla="*/ 89064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1721158"/>
                <a:lnTo>
                  <a:pt x="12888" y="19864"/>
                </a:lnTo>
                <a:lnTo>
                  <a:pt x="0" y="17931"/>
                </a:lnTo>
                <a:lnTo>
                  <a:pt x="12888" y="12525"/>
                </a:lnTo>
                <a:lnTo>
                  <a:pt x="12888" y="15839"/>
                </a:lnTo>
                <a:arcTo wR="21600" hR="8788" stAng="1721158" swAng="-1664538"/>
                <a:lnTo>
                  <a:pt x="21582" y="9143"/>
                </a:lnTo>
                <a:arcTo wR="21600" hR="8788" stAng="-56621" swAng="-5343379"/>
                <a:close/>
              </a:path>
              <a:path fill="darkenLess"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-56621"/>
                <a:lnTo>
                  <a:pt x="21582" y="9143"/>
                </a:lnTo>
                <a:arcTo wR="21600" hR="8788" stAng="-56621" swAng="-534337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Connecteur droit avec flèche 115"/>
          <p:cNvCxnSpPr>
            <a:stCxn id="523" idx="11"/>
            <a:endCxn id="523" idx="12"/>
          </p:cNvCxnSpPr>
          <p:nvPr/>
        </p:nvCxnSpPr>
        <p:spPr>
          <a:xfrm flipH="1">
            <a:off x="7071480" y="1949400"/>
            <a:ext cx="10440" cy="12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ZoneTexte 124"/>
          <p:cNvSpPr/>
          <p:nvPr/>
        </p:nvSpPr>
        <p:spPr>
          <a:xfrm>
            <a:off x="350028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Local Tissu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e 38"/>
          <p:cNvGrpSpPr/>
          <p:nvPr/>
        </p:nvGrpSpPr>
        <p:grpSpPr>
          <a:xfrm>
            <a:off x="3886200" y="3214800"/>
            <a:ext cx="3328920" cy="2571480"/>
            <a:chOff x="3886200" y="3214800"/>
            <a:chExt cx="3328920" cy="2571480"/>
          </a:xfrm>
        </p:grpSpPr>
        <p:sp>
          <p:nvSpPr>
            <p:cNvPr id="539" name="Ellipse 10"/>
            <p:cNvSpPr/>
            <p:nvPr/>
          </p:nvSpPr>
          <p:spPr>
            <a:xfrm>
              <a:off x="3886200" y="3214800"/>
              <a:ext cx="3328920" cy="2571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Connecteur droit avec flèche 37"/>
            <p:cNvCxnSpPr>
              <a:stCxn id="539" idx="5"/>
            </p:cNvCxnSpPr>
            <p:nvPr/>
          </p:nvCxnSpPr>
          <p:spPr>
            <a:xfrm flipV="1">
              <a:off x="6726960" y="5285520"/>
              <a:ext cx="130680" cy="12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Connecteur droit avec flèche 39"/>
            <p:cNvCxnSpPr>
              <a:stCxn id="539" idx="7"/>
            </p:cNvCxnSpPr>
            <p:nvPr/>
          </p:nvCxnSpPr>
          <p:spPr>
            <a:xfrm flipH="1" flipV="1">
              <a:off x="6572160" y="3499560"/>
              <a:ext cx="155880" cy="9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2" name="Text Box 10"/>
          <p:cNvGrpSpPr/>
          <p:nvPr/>
        </p:nvGrpSpPr>
        <p:grpSpPr>
          <a:xfrm>
            <a:off x="6400800" y="4187880"/>
            <a:ext cx="1768320" cy="633240"/>
            <a:chOff x="6400800" y="4187880"/>
            <a:chExt cx="1768320" cy="633240"/>
          </a:xfrm>
        </p:grpSpPr>
        <p:pic>
          <p:nvPicPr>
            <p:cNvPr id="543" name="Text Box 10" descr=""/>
            <p:cNvPicPr/>
            <p:nvPr/>
          </p:nvPicPr>
          <p:blipFill>
            <a:blip r:embed="rId4"/>
            <a:stretch/>
          </p:blipFill>
          <p:spPr>
            <a:xfrm>
              <a:off x="6400800" y="4187880"/>
              <a:ext cx="1768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429240" y="42148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proba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Text Box 10"/>
          <p:cNvGrpSpPr/>
          <p:nvPr/>
        </p:nvGrpSpPr>
        <p:grpSpPr>
          <a:xfrm>
            <a:off x="3571920" y="3260880"/>
            <a:ext cx="1762200" cy="634680"/>
            <a:chOff x="3571920" y="3260880"/>
            <a:chExt cx="1762200" cy="634680"/>
          </a:xfrm>
        </p:grpSpPr>
        <p:pic>
          <p:nvPicPr>
            <p:cNvPr id="546" name="Text Box 10" descr=""/>
            <p:cNvPicPr/>
            <p:nvPr/>
          </p:nvPicPr>
          <p:blipFill>
            <a:blip r:embed="rId5"/>
            <a:stretch/>
          </p:blipFill>
          <p:spPr>
            <a:xfrm>
              <a:off x="3571920" y="3260880"/>
              <a:ext cx="17622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600360" y="32860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Model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Text Box 10"/>
          <p:cNvGrpSpPr/>
          <p:nvPr/>
        </p:nvGrpSpPr>
        <p:grpSpPr>
          <a:xfrm>
            <a:off x="2786040" y="3975120"/>
            <a:ext cx="1981080" cy="706320"/>
            <a:chOff x="2786040" y="3975120"/>
            <a:chExt cx="1981080" cy="706320"/>
          </a:xfrm>
        </p:grpSpPr>
        <p:pic>
          <p:nvPicPr>
            <p:cNvPr id="549" name="Text Box 10" descr=""/>
            <p:cNvPicPr/>
            <p:nvPr/>
          </p:nvPicPr>
          <p:blipFill>
            <a:blip r:embed="rId6"/>
            <a:stretch/>
          </p:blipFill>
          <p:spPr>
            <a:xfrm>
              <a:off x="2786040" y="3975120"/>
              <a:ext cx="19810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814480" y="4000680"/>
              <a:ext cx="1928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ver neighbourh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Text Box 10"/>
          <p:cNvGrpSpPr/>
          <p:nvPr/>
        </p:nvGrpSpPr>
        <p:grpSpPr>
          <a:xfrm>
            <a:off x="2828880" y="4780080"/>
            <a:ext cx="2193840" cy="382320"/>
            <a:chOff x="2828880" y="4780080"/>
            <a:chExt cx="2193840" cy="382320"/>
          </a:xfrm>
        </p:grpSpPr>
        <p:pic>
          <p:nvPicPr>
            <p:cNvPr id="552" name="Text Box 10" descr=""/>
            <p:cNvPicPr/>
            <p:nvPr/>
          </p:nvPicPr>
          <p:blipFill>
            <a:blip r:embed="rId7"/>
            <a:stretch/>
          </p:blipFill>
          <p:spPr>
            <a:xfrm>
              <a:off x="2828880" y="4780080"/>
              <a:ext cx="21938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857680" y="480528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Text Box 10"/>
          <p:cNvGrpSpPr/>
          <p:nvPr/>
        </p:nvGrpSpPr>
        <p:grpSpPr>
          <a:xfrm>
            <a:off x="3255840" y="5261040"/>
            <a:ext cx="2022480" cy="384120"/>
            <a:chOff x="3255840" y="5261040"/>
            <a:chExt cx="2022480" cy="384120"/>
          </a:xfrm>
        </p:grpSpPr>
        <p:pic>
          <p:nvPicPr>
            <p:cNvPr id="555" name="Text Box 10" descr=""/>
            <p:cNvPicPr/>
            <p:nvPr/>
          </p:nvPicPr>
          <p:blipFill>
            <a:blip r:embed="rId8"/>
            <a:stretch/>
          </p:blipFill>
          <p:spPr>
            <a:xfrm>
              <a:off x="3255840" y="5261040"/>
              <a:ext cx="20224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286080" y="528624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Organigramme : Décision 35"/>
          <p:cNvGrpSpPr/>
          <p:nvPr/>
        </p:nvGrpSpPr>
        <p:grpSpPr>
          <a:xfrm>
            <a:off x="4516560" y="5614920"/>
            <a:ext cx="2103480" cy="766800"/>
            <a:chOff x="4516560" y="5614920"/>
            <a:chExt cx="2103480" cy="766800"/>
          </a:xfrm>
        </p:grpSpPr>
        <p:pic>
          <p:nvPicPr>
            <p:cNvPr id="558" name="Organigramme : Décision 35" descr=""/>
            <p:cNvPicPr/>
            <p:nvPr/>
          </p:nvPicPr>
          <p:blipFill>
            <a:blip r:embed="rId9"/>
            <a:stretch/>
          </p:blipFill>
          <p:spPr>
            <a:xfrm>
              <a:off x="4516560" y="5614920"/>
              <a:ext cx="2103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5072040" y="5823000"/>
              <a:ext cx="100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bilized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0" name="Picture 16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728720" cy="2357280"/>
          </a:xfrm>
          <a:prstGeom prst="rect">
            <a:avLst/>
          </a:prstGeom>
          <a:ln w="0">
            <a:noFill/>
          </a:ln>
        </p:spPr>
      </p:pic>
      <p:sp>
        <p:nvSpPr>
          <p:cNvPr id="561" name="Connecteur droit 41"/>
          <p:cNvSpPr/>
          <p:nvPr/>
        </p:nvSpPr>
        <p:spPr>
          <a:xfrm flipV="1">
            <a:off x="1066680" y="1857240"/>
            <a:ext cx="1362240" cy="210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nnecteur droit 43"/>
          <p:cNvSpPr/>
          <p:nvPr/>
        </p:nvSpPr>
        <p:spPr>
          <a:xfrm>
            <a:off x="1066680" y="4191120"/>
            <a:ext cx="1433520" cy="2166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onnecteur droit 45"/>
          <p:cNvSpPr/>
          <p:nvPr/>
        </p:nvSpPr>
        <p:spPr>
          <a:xfrm>
            <a:off x="1371600" y="3962520"/>
            <a:ext cx="985680" cy="25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onnecteur droit 47"/>
          <p:cNvSpPr/>
          <p:nvPr/>
        </p:nvSpPr>
        <p:spPr>
          <a:xfrm>
            <a:off x="1295280" y="4191120"/>
            <a:ext cx="1133640" cy="1095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one localized Structure Agent per Stru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or each structure agent AlS, a local MRF model M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2 Class Segmentation :  structure /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Espace réservé de la date 1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Espace réservé du pied de page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218-A65D-469A-AB88-B06D7080FCA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643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Part III – A Cooperative Framework for Brain MRI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. Magnetic resonance imaging (MRI) in brie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. A distributed, cooperative approac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I. Distributed Local MRF Models for Tissue and Structure Brain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107A-C901-4D36-9FFC-AD8FCE9DAAF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Describe the brain anatomy according to stable relations between structures [Bloch I., 1999]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eneric and stable spatial relations provided by a brain anatomist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« The left caudate nucleus is at less than 5mm from the left frontal horn », « The right thalamus is below the right frontal horn »,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A fuzzy knowledge frame to cope with the heavy inter-individual variability of the bra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xpressed via 3D fuzzy maps representing relations of distance, orientation (between structures), and symetry of the brain anatomy, followed by a fusion ste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Espace réservé de la date 3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Espace réservé du pied de page 3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C59-3A21-4720-95C9-A4C903B0653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08360" cy="1511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33420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4"/>
          <a:stretch/>
        </p:blipFill>
        <p:spPr>
          <a:xfrm>
            <a:off x="7412040" y="2209680"/>
            <a:ext cx="101772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"/>
          <p:cNvPicPr/>
          <p:nvPr/>
        </p:nvPicPr>
        <p:blipFill>
          <a:blip r:embed="rId5"/>
          <a:stretch/>
        </p:blipFill>
        <p:spPr>
          <a:xfrm>
            <a:off x="480060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6"/>
          <a:stretch/>
        </p:blipFill>
        <p:spPr>
          <a:xfrm>
            <a:off x="58514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"/>
          <p:cNvPicPr/>
          <p:nvPr/>
        </p:nvPicPr>
        <p:blipFill>
          <a:blip r:embed="rId7"/>
          <a:stretch/>
        </p:blipFill>
        <p:spPr>
          <a:xfrm>
            <a:off x="69008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4" descr=""/>
          <p:cNvPicPr/>
          <p:nvPr/>
        </p:nvPicPr>
        <p:blipFill>
          <a:blip r:embed="rId8"/>
          <a:stretch/>
        </p:blipFill>
        <p:spPr>
          <a:xfrm>
            <a:off x="795168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"/>
          <p:cNvPicPr/>
          <p:nvPr/>
        </p:nvPicPr>
        <p:blipFill>
          <a:blip r:embed="rId9"/>
          <a:stretch/>
        </p:blipFill>
        <p:spPr>
          <a:xfrm>
            <a:off x="5715000" y="4795920"/>
            <a:ext cx="1225440" cy="86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7" descr=""/>
          <p:cNvPicPr/>
          <p:nvPr/>
        </p:nvPicPr>
        <p:blipFill>
          <a:blip r:embed="rId10"/>
          <a:stretch/>
        </p:blipFill>
        <p:spPr>
          <a:xfrm>
            <a:off x="7300800" y="4795920"/>
            <a:ext cx="471600" cy="86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"/>
          <p:cNvPicPr/>
          <p:nvPr/>
        </p:nvPicPr>
        <p:blipFill>
          <a:blip r:embed="rId11"/>
          <a:stretch/>
        </p:blipFill>
        <p:spPr>
          <a:xfrm>
            <a:off x="8101080" y="4795920"/>
            <a:ext cx="471600" cy="863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9"/>
          <p:cNvSpPr/>
          <p:nvPr/>
        </p:nvSpPr>
        <p:spPr>
          <a:xfrm>
            <a:off x="694836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20"/>
          <p:cNvSpPr/>
          <p:nvPr/>
        </p:nvSpPr>
        <p:spPr>
          <a:xfrm>
            <a:off x="774072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562720" y="5792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putation of symetrical 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3" descr=""/>
          <p:cNvPicPr/>
          <p:nvPr/>
        </p:nvPicPr>
        <p:blipFill>
          <a:blip r:embed="rId12"/>
          <a:stretch/>
        </p:blipFill>
        <p:spPr>
          <a:xfrm>
            <a:off x="4500720" y="4724280"/>
            <a:ext cx="985680" cy="12556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0"/>
          <p:cNvSpPr/>
          <p:nvPr/>
        </p:nvSpPr>
        <p:spPr>
          <a:xfrm>
            <a:off x="8035920" y="5792760"/>
            <a:ext cx="8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istance 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7238520" y="58737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ro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600" y="1447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x: The Caudate Nucle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Fuzzy Localization Map provides the agent territory (dynamic localization, with a simple thresholding) 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integrated in the MRF framework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 2-Class Markov Mode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for each structur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Espace réservé de la date 2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Espace réservé du pied de page 2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3386-AA2E-4C46-A8AA-065BF9B0240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er 41"/>
          <p:cNvGrpSpPr/>
          <p:nvPr/>
        </p:nvGrpSpPr>
        <p:grpSpPr>
          <a:xfrm>
            <a:off x="609480" y="1676520"/>
            <a:ext cx="8029800" cy="2118960"/>
            <a:chOff x="609480" y="1676520"/>
            <a:chExt cx="8029800" cy="2118960"/>
          </a:xfrm>
        </p:grpSpPr>
        <p:pic>
          <p:nvPicPr>
            <p:cNvPr id="599" name="Picture 21" descr="D:\Mes Documents\These\ProjetLOCUS\Documents\Publications\TMI2007\imgs\sr_fusion.png"/>
            <p:cNvPicPr/>
            <p:nvPr/>
          </p:nvPicPr>
          <p:blipFill>
            <a:blip r:embed="rId1"/>
            <a:stretch/>
          </p:blipFill>
          <p:spPr>
            <a:xfrm>
              <a:off x="641988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D:\Mes Documents\These\ProjetLOCUS\Documents\Publications\TMI2007\imgs\sr_orient.png"/>
            <p:cNvPicPr/>
            <p:nvPr/>
          </p:nvPicPr>
          <p:blipFill>
            <a:blip r:embed="rId2"/>
            <a:stretch/>
          </p:blipFill>
          <p:spPr>
            <a:xfrm>
              <a:off x="26859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3" descr="D:\Mes Documents\These\ProjetLOCUS\Documents\Publications\TMI2007\imgs\sr_dist.png"/>
            <p:cNvPicPr/>
            <p:nvPr/>
          </p:nvPicPr>
          <p:blipFill>
            <a:blip r:embed="rId3"/>
            <a:stretch/>
          </p:blipFill>
          <p:spPr>
            <a:xfrm>
              <a:off x="6141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Accolade fermante 69"/>
            <p:cNvSpPr/>
            <p:nvPr/>
          </p:nvSpPr>
          <p:spPr>
            <a:xfrm>
              <a:off x="4819680" y="1676520"/>
              <a:ext cx="285480" cy="164232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7200 h 1642320"/>
                <a:gd name="textAreaBottom" fmla="*/ 163512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7"/>
                    <a:pt x="10800" y="313"/>
                  </a:cubicBezTo>
                  <a:lnTo>
                    <a:pt x="10800" y="10487"/>
                  </a:lnTo>
                  <a:cubicBezTo>
                    <a:pt x="10800" y="10644"/>
                    <a:pt x="16200" y="10800"/>
                    <a:pt x="21600" y="10800"/>
                  </a:cubicBezTo>
                  <a:cubicBezTo>
                    <a:pt x="16200" y="10800"/>
                    <a:pt x="10800" y="10957"/>
                    <a:pt x="10800" y="11113"/>
                  </a:cubicBezTo>
                  <a:lnTo>
                    <a:pt x="10800" y="21287"/>
                  </a:lnTo>
                  <a:cubicBezTo>
                    <a:pt x="10800" y="2144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7"/>
            <p:cNvSpPr/>
            <p:nvPr/>
          </p:nvSpPr>
          <p:spPr>
            <a:xfrm>
              <a:off x="6496200" y="2971440"/>
              <a:ext cx="214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uzzy Localization Map of the structure in the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124600" y="2286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FU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7"/>
            <p:cNvSpPr/>
            <p:nvPr/>
          </p:nvSpPr>
          <p:spPr>
            <a:xfrm>
              <a:off x="609480" y="297144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stance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7"/>
            <p:cNvSpPr/>
            <p:nvPr/>
          </p:nvSpPr>
          <p:spPr>
            <a:xfrm>
              <a:off x="2609640" y="297144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rientation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7" name="Picture 19" descr=""/>
          <p:cNvPicPr/>
          <p:nvPr/>
        </p:nvPicPr>
        <p:blipFill>
          <a:blip r:embed="rId4"/>
          <a:stretch/>
        </p:blipFill>
        <p:spPr>
          <a:xfrm>
            <a:off x="6539040" y="4114800"/>
            <a:ext cx="26049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er 48"/>
          <p:cNvGrpSpPr/>
          <p:nvPr/>
        </p:nvGrpSpPr>
        <p:grpSpPr>
          <a:xfrm>
            <a:off x="228600" y="4572000"/>
            <a:ext cx="6143760" cy="1788840"/>
            <a:chOff x="228600" y="4572000"/>
            <a:chExt cx="6143760" cy="1788840"/>
          </a:xfrm>
        </p:grpSpPr>
        <p:pic>
          <p:nvPicPr>
            <p:cNvPr id="609" name="Picture 81" descr=""/>
            <p:cNvPicPr/>
            <p:nvPr/>
          </p:nvPicPr>
          <p:blipFill>
            <a:blip r:embed="rId5"/>
            <a:stretch/>
          </p:blipFill>
          <p:spPr>
            <a:xfrm>
              <a:off x="228600" y="4572000"/>
              <a:ext cx="6143760" cy="9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9"/>
            <p:cNvSpPr/>
            <p:nvPr/>
          </p:nvSpPr>
          <p:spPr>
            <a:xfrm>
              <a:off x="1728720" y="5536800"/>
              <a:ext cx="346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field term: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tegration of </a:t>
              </a:r>
              <a:r>
                <a:rPr b="0" i="1" lang="fr-FR" sz="1600" spc="-1" strike="noStrike">
                  <a:solidFill>
                    <a:srgbClr val="000000"/>
                  </a:solidFill>
                  <a:latin typeface="Times New Roman"/>
                </a:rPr>
                <a:t>a priori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knowledge based on Fuzzy 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 flipH="1" flipV="1">
              <a:off x="2585880" y="5268240"/>
              <a:ext cx="142560" cy="35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4876920" y="5587920"/>
            <a:ext cx="34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bability of the structure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7"/>
          <p:cNvSpPr/>
          <p:nvPr/>
        </p:nvSpPr>
        <p:spPr>
          <a:xfrm flipH="1" flipV="1">
            <a:off x="5333760" y="5181120"/>
            <a:ext cx="142920" cy="35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63"/>
          <p:cNvSpPr/>
          <p:nvPr/>
        </p:nvSpPr>
        <p:spPr>
          <a:xfrm>
            <a:off x="285840" y="928800"/>
            <a:ext cx="8572320" cy="27144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63"/>
          <p:cNvSpPr/>
          <p:nvPr/>
        </p:nvSpPr>
        <p:spPr>
          <a:xfrm>
            <a:off x="285840" y="4100400"/>
            <a:ext cx="8572320" cy="20718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à coins arrondis 8"/>
          <p:cNvSpPr/>
          <p:nvPr/>
        </p:nvSpPr>
        <p:spPr>
          <a:xfrm>
            <a:off x="3714840" y="4243320"/>
            <a:ext cx="416376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à coins arrondis 7"/>
          <p:cNvSpPr/>
          <p:nvPr/>
        </p:nvSpPr>
        <p:spPr>
          <a:xfrm>
            <a:off x="3571920" y="4386240"/>
            <a:ext cx="447048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Espace réservé de la date 3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Espace réservé du pied de page 3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B6F-2D8F-424B-9B9B-B39C2848A44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à coins arrondis 4"/>
          <p:cNvSpPr/>
          <p:nvPr/>
        </p:nvSpPr>
        <p:spPr>
          <a:xfrm>
            <a:off x="3429000" y="4529160"/>
            <a:ext cx="471492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à coins arrondis 5"/>
          <p:cNvSpPr/>
          <p:nvPr/>
        </p:nvSpPr>
        <p:spPr>
          <a:xfrm>
            <a:off x="1000080" y="452916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ZoneTexte 6"/>
          <p:cNvSpPr/>
          <p:nvPr/>
        </p:nvSpPr>
        <p:spPr>
          <a:xfrm>
            <a:off x="1214280" y="4815000"/>
            <a:ext cx="9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à coins arrondis 9"/>
          <p:cNvSpPr/>
          <p:nvPr/>
        </p:nvSpPr>
        <p:spPr>
          <a:xfrm>
            <a:off x="928800" y="171468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ZoneTexte 10"/>
          <p:cNvSpPr/>
          <p:nvPr/>
        </p:nvSpPr>
        <p:spPr>
          <a:xfrm>
            <a:off x="1000080" y="20001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à coins arrondis 11"/>
          <p:cNvSpPr/>
          <p:nvPr/>
        </p:nvSpPr>
        <p:spPr>
          <a:xfrm>
            <a:off x="3786120" y="1214280"/>
            <a:ext cx="404172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à coins arrondis 12"/>
          <p:cNvSpPr/>
          <p:nvPr/>
        </p:nvSpPr>
        <p:spPr>
          <a:xfrm>
            <a:off x="3643200" y="1357200"/>
            <a:ext cx="440856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à coins arrondis 13"/>
          <p:cNvSpPr/>
          <p:nvPr/>
        </p:nvSpPr>
        <p:spPr>
          <a:xfrm>
            <a:off x="3500280" y="1500120"/>
            <a:ext cx="4714920" cy="185760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lèche courbée vers la gauche 20"/>
          <p:cNvSpPr/>
          <p:nvPr/>
        </p:nvSpPr>
        <p:spPr>
          <a:xfrm flipH="1" flipV="1" rot="21215400">
            <a:off x="4036320" y="3031200"/>
            <a:ext cx="619200" cy="1965240"/>
          </a:xfrm>
          <a:custGeom>
            <a:avLst/>
            <a:gdLst>
              <a:gd name="textAreaLeft" fmla="*/ 82800 w 619200"/>
              <a:gd name="textAreaRight" fmla="*/ 536400 w 619200"/>
              <a:gd name="textAreaTop" fmla="*/ 400320 h 1965240"/>
              <a:gd name="textAreaBottom" fmla="*/ 1265400 h 19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1723217"/>
                <a:lnTo>
                  <a:pt x="12888" y="19862"/>
                </a:lnTo>
                <a:lnTo>
                  <a:pt x="0" y="17953"/>
                </a:lnTo>
                <a:lnTo>
                  <a:pt x="12888" y="12568"/>
                </a:lnTo>
                <a:lnTo>
                  <a:pt x="12888" y="15862"/>
                </a:lnTo>
                <a:arcTo wR="21600" hR="8800" stAng="1723217" swAng="-1666995"/>
                <a:lnTo>
                  <a:pt x="21583" y="9153"/>
                </a:lnTo>
                <a:arcTo wR="21600" hR="8800" stAng="-56222" swAng="-5343778"/>
                <a:close/>
              </a:path>
              <a:path fill="darkenLess"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-56222"/>
                <a:lnTo>
                  <a:pt x="21583" y="9153"/>
                </a:lnTo>
                <a:arcTo wR="21600" hR="8800" stAng="-56222" swAng="-534377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lèche courbée vers la gauche 21"/>
          <p:cNvSpPr/>
          <p:nvPr/>
        </p:nvSpPr>
        <p:spPr>
          <a:xfrm flipH="1" flipV="1" rot="9608400">
            <a:off x="6681960" y="3001320"/>
            <a:ext cx="660240" cy="2205000"/>
          </a:xfrm>
          <a:custGeom>
            <a:avLst/>
            <a:gdLst>
              <a:gd name="textAreaLeft" fmla="*/ 88200 w 660240"/>
              <a:gd name="textAreaRight" fmla="*/ 572040 w 660240"/>
              <a:gd name="textAreaTop" fmla="*/ 453600 h 2205000"/>
              <a:gd name="textAreaBottom" fmla="*/ 143064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1738981"/>
                <a:lnTo>
                  <a:pt x="12888" y="19843"/>
                </a:lnTo>
                <a:lnTo>
                  <a:pt x="0" y="18129"/>
                </a:lnTo>
                <a:lnTo>
                  <a:pt x="12888" y="12900"/>
                </a:lnTo>
                <a:lnTo>
                  <a:pt x="12888" y="16035"/>
                </a:lnTo>
                <a:arcTo wR="21600" hR="8896" stAng="1738981" swAng="-1685392"/>
                <a:lnTo>
                  <a:pt x="21585" y="9233"/>
                </a:lnTo>
                <a:arcTo wR="21600" hR="8896" stAng="-53590" swAng="-5346410"/>
                <a:close/>
              </a:path>
              <a:path fill="darkenLess"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-53590"/>
                <a:lnTo>
                  <a:pt x="21585" y="9233"/>
                </a:lnTo>
                <a:arcTo wR="21600" hR="8896" stAng="-53590" swAng="-5346410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lèche courbée vers la gauche 26"/>
          <p:cNvSpPr/>
          <p:nvPr/>
        </p:nvSpPr>
        <p:spPr>
          <a:xfrm flipV="1" rot="193800">
            <a:off x="7539120" y="905400"/>
            <a:ext cx="598320" cy="1131840"/>
          </a:xfrm>
          <a:custGeom>
            <a:avLst/>
            <a:gdLst>
              <a:gd name="textAreaLeft" fmla="*/ 79920 w 598320"/>
              <a:gd name="textAreaRight" fmla="*/ 518400 w 598320"/>
              <a:gd name="textAreaTop" fmla="*/ 194760 h 1131840"/>
              <a:gd name="textAreaBottom" fmla="*/ 64692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1491301"/>
                <a:lnTo>
                  <a:pt x="12888" y="20131"/>
                </a:lnTo>
                <a:lnTo>
                  <a:pt x="0" y="15474"/>
                </a:lnTo>
                <a:lnTo>
                  <a:pt x="12888" y="7878"/>
                </a:lnTo>
                <a:lnTo>
                  <a:pt x="12888" y="13410"/>
                </a:lnTo>
                <a:arcTo wR="21600" hR="7440" stAng="1491301" swAng="-1396404"/>
                <a:lnTo>
                  <a:pt x="21531" y="8034"/>
                </a:lnTo>
                <a:arcTo wR="21600" hR="7440" stAng="-94897" swAng="-5305103"/>
                <a:close/>
              </a:path>
              <a:path fill="darkenLess"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-94897"/>
                <a:lnTo>
                  <a:pt x="21531" y="8034"/>
                </a:lnTo>
                <a:arcTo wR="21600" hR="7440" stAng="-94897" swAng="-5305103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à coins arrondis 30"/>
          <p:cNvSpPr/>
          <p:nvPr/>
        </p:nvSpPr>
        <p:spPr>
          <a:xfrm>
            <a:off x="714240" y="714240"/>
            <a:ext cx="214344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à coins arrondis 31"/>
          <p:cNvSpPr/>
          <p:nvPr/>
        </p:nvSpPr>
        <p:spPr>
          <a:xfrm>
            <a:off x="785880" y="3957480"/>
            <a:ext cx="207180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èche vers le haut 111"/>
          <p:cNvSpPr/>
          <p:nvPr/>
        </p:nvSpPr>
        <p:spPr>
          <a:xfrm rot="5400000">
            <a:off x="2678400" y="4707360"/>
            <a:ext cx="357120" cy="1000440"/>
          </a:xfrm>
          <a:prstGeom prst="upArrow">
            <a:avLst>
              <a:gd name="adj1" fmla="val 23333"/>
              <a:gd name="adj2" fmla="val 36678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lèche vers le haut 111"/>
          <p:cNvSpPr/>
          <p:nvPr/>
        </p:nvSpPr>
        <p:spPr>
          <a:xfrm rot="5400000">
            <a:off x="2678400" y="1892880"/>
            <a:ext cx="357120" cy="1143000"/>
          </a:xfrm>
          <a:prstGeom prst="upArrow">
            <a:avLst>
              <a:gd name="adj1" fmla="val 23333"/>
              <a:gd name="adj2" fmla="val 36659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ZoneTexte 10"/>
          <p:cNvSpPr/>
          <p:nvPr/>
        </p:nvSpPr>
        <p:spPr>
          <a:xfrm>
            <a:off x="4214880" y="1571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ZoneTexte 10"/>
          <p:cNvSpPr/>
          <p:nvPr/>
        </p:nvSpPr>
        <p:spPr>
          <a:xfrm>
            <a:off x="4714920" y="45291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4857840" y="2500200"/>
            <a:ext cx="1857240" cy="71460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3"/>
          <p:cNvSpPr/>
          <p:nvPr/>
        </p:nvSpPr>
        <p:spPr>
          <a:xfrm>
            <a:off x="4929120" y="5029200"/>
            <a:ext cx="1857600" cy="7142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à coins arrondis 36"/>
          <p:cNvSpPr/>
          <p:nvPr/>
        </p:nvSpPr>
        <p:spPr>
          <a:xfrm>
            <a:off x="37861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à coins arrondis 37"/>
          <p:cNvSpPr/>
          <p:nvPr/>
        </p:nvSpPr>
        <p:spPr>
          <a:xfrm>
            <a:off x="67867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à coins arrondis 38"/>
          <p:cNvSpPr/>
          <p:nvPr/>
        </p:nvSpPr>
        <p:spPr>
          <a:xfrm>
            <a:off x="371484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à coins arrondis 39"/>
          <p:cNvSpPr/>
          <p:nvPr/>
        </p:nvSpPr>
        <p:spPr>
          <a:xfrm>
            <a:off x="671508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8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608040" cy="785520"/>
          </a:xfrm>
          <a:prstGeom prst="rect">
            <a:avLst/>
          </a:prstGeom>
          <a:ln w="0">
            <a:noFill/>
          </a:ln>
        </p:spPr>
      </p:pic>
      <p:sp>
        <p:nvSpPr>
          <p:cNvPr id="646" name="Flèche droite 33"/>
          <p:cNvSpPr/>
          <p:nvPr/>
        </p:nvSpPr>
        <p:spPr>
          <a:xfrm rot="5400000">
            <a:off x="7143120" y="2357280"/>
            <a:ext cx="214560" cy="2142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e9e5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lèche courbée vers la gauche 34"/>
          <p:cNvSpPr/>
          <p:nvPr/>
        </p:nvSpPr>
        <p:spPr>
          <a:xfrm flipH="1" flipV="1" rot="193200">
            <a:off x="3149640" y="3940920"/>
            <a:ext cx="674640" cy="1086120"/>
          </a:xfrm>
          <a:custGeom>
            <a:avLst/>
            <a:gdLst>
              <a:gd name="textAreaLeft" fmla="*/ 90360 w 674640"/>
              <a:gd name="textAreaRight" fmla="*/ 584280 w 674640"/>
              <a:gd name="textAreaTop" fmla="*/ 172080 h 1086120"/>
              <a:gd name="textAreaBottom" fmla="*/ 587160 h 10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1386510"/>
                <a:lnTo>
                  <a:pt x="12888" y="20246"/>
                </a:lnTo>
                <a:lnTo>
                  <a:pt x="0" y="14405"/>
                </a:lnTo>
                <a:lnTo>
                  <a:pt x="12888" y="5855"/>
                </a:lnTo>
                <a:lnTo>
                  <a:pt x="12888" y="12352"/>
                </a:lnTo>
                <a:arcTo wR="21600" hR="6853" stAng="1386510" swAng="-1274798"/>
                <a:lnTo>
                  <a:pt x="21488" y="7552"/>
                </a:lnTo>
                <a:arcTo wR="21600" hR="6853" stAng="-111712" swAng="-5288288"/>
                <a:close/>
              </a:path>
              <a:path fill="darkenLess"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-111712"/>
                <a:lnTo>
                  <a:pt x="21488" y="7552"/>
                </a:lnTo>
                <a:arcTo wR="21600" hR="6853" stAng="-111712" swAng="-528828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0" descr="D:\Mes Documents\These\ProjetLOCUS\Documents\Publications\AIME2007\imgs\bw_combined.png"/>
          <p:cNvPicPr/>
          <p:nvPr/>
        </p:nvPicPr>
        <p:blipFill>
          <a:blip r:embed="rId2"/>
          <a:stretch/>
        </p:blipFill>
        <p:spPr>
          <a:xfrm>
            <a:off x="-231840" y="3865680"/>
            <a:ext cx="1249560" cy="107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D:\Mes Documents\These\ProjetLOCUS\Documents\Publications\AIME2007\imgs\bw_struct.png"/>
          <p:cNvPicPr/>
          <p:nvPr/>
        </p:nvPicPr>
        <p:blipFill>
          <a:blip r:embed="rId3"/>
          <a:stretch/>
        </p:blipFill>
        <p:spPr>
          <a:xfrm>
            <a:off x="-225360" y="609480"/>
            <a:ext cx="11635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056"/>
          <p:cNvSpPr/>
          <p:nvPr/>
        </p:nvSpPr>
        <p:spPr>
          <a:xfrm>
            <a:off x="325440" y="235080"/>
            <a:ext cx="4968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0640" y="299880"/>
            <a:ext cx="3465720" cy="94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Franklin Gothic Book"/>
              </a:rPr>
              <a:t>Adaptation to local image complex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6114960" y="1157400"/>
            <a:ext cx="2043360" cy="251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3"/>
          <a:stretch/>
        </p:blipFill>
        <p:spPr>
          <a:xfrm>
            <a:off x="5946840" y="3557520"/>
            <a:ext cx="2381040" cy="2500560"/>
          </a:xfrm>
          <a:prstGeom prst="rect">
            <a:avLst/>
          </a:prstGeom>
          <a:ln w="0">
            <a:noFill/>
          </a:ln>
        </p:spPr>
      </p:pic>
      <p:sp>
        <p:nvSpPr>
          <p:cNvPr id="657" name="ZoneTexte 20"/>
          <p:cNvSpPr/>
          <p:nvPr/>
        </p:nvSpPr>
        <p:spPr>
          <a:xfrm>
            <a:off x="5869080" y="5977080"/>
            <a:ext cx="25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Iteration number per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4"/>
          <a:stretch/>
        </p:blipFill>
        <p:spPr>
          <a:xfrm>
            <a:off x="47160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5"/>
          <a:stretch/>
        </p:blipFill>
        <p:spPr>
          <a:xfrm>
            <a:off x="228456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"/>
          <p:cNvPicPr/>
          <p:nvPr/>
        </p:nvPicPr>
        <p:blipFill>
          <a:blip r:embed="rId6"/>
          <a:stretch/>
        </p:blipFill>
        <p:spPr>
          <a:xfrm>
            <a:off x="2284560" y="228276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746280" y="3439800"/>
            <a:ext cx="11412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SP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3965400" y="1412640"/>
            <a:ext cx="1141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033800" y="287460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LOCUS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53"/>
          <p:cNvSpPr/>
          <p:nvPr/>
        </p:nvSpPr>
        <p:spPr>
          <a:xfrm>
            <a:off x="213480" y="2984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High inhomogeneity (surface ante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055"/>
          <p:cNvGrpSpPr/>
          <p:nvPr/>
        </p:nvGrpSpPr>
        <p:grpSpPr>
          <a:xfrm>
            <a:off x="345960" y="4075200"/>
            <a:ext cx="4957920" cy="2082600"/>
            <a:chOff x="345960" y="4075200"/>
            <a:chExt cx="4957920" cy="2082600"/>
          </a:xfrm>
        </p:grpSpPr>
        <p:sp>
          <p:nvSpPr>
            <p:cNvPr id="666" name="Rectangle 4"/>
            <p:cNvSpPr/>
            <p:nvPr/>
          </p:nvSpPr>
          <p:spPr>
            <a:xfrm>
              <a:off x="4064040" y="565920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LOCUS-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Picture 3" descr=""/>
            <p:cNvPicPr/>
            <p:nvPr/>
          </p:nvPicPr>
          <p:blipFill>
            <a:blip r:embed="rId7"/>
            <a:stretch/>
          </p:blipFill>
          <p:spPr>
            <a:xfrm>
              <a:off x="4010040" y="4684680"/>
              <a:ext cx="116028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8"/>
            <a:stretch/>
          </p:blipFill>
          <p:spPr>
            <a:xfrm>
              <a:off x="474840" y="4562640"/>
              <a:ext cx="10159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9"/>
            <a:stretch/>
          </p:blipFill>
          <p:spPr>
            <a:xfrm>
              <a:off x="1630440" y="4675320"/>
              <a:ext cx="117936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4"/>
            <p:cNvSpPr/>
            <p:nvPr/>
          </p:nvSpPr>
          <p:spPr>
            <a:xfrm>
              <a:off x="168588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SP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1" name="Picture 6" descr=""/>
            <p:cNvPicPr/>
            <p:nvPr/>
          </p:nvPicPr>
          <p:blipFill>
            <a:blip r:embed="rId10"/>
            <a:stretch/>
          </p:blipFill>
          <p:spPr>
            <a:xfrm>
              <a:off x="2824200" y="4680000"/>
              <a:ext cx="11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4"/>
            <p:cNvSpPr/>
            <p:nvPr/>
          </p:nvSpPr>
          <p:spPr>
            <a:xfrm>
              <a:off x="287496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F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1045"/>
            <p:cNvSpPr/>
            <p:nvPr/>
          </p:nvSpPr>
          <p:spPr>
            <a:xfrm>
              <a:off x="365040" y="4087800"/>
              <a:ext cx="18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orgia"/>
                </a:rPr>
                <a:t>Real 3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54"/>
            <p:cNvSpPr/>
            <p:nvPr/>
          </p:nvSpPr>
          <p:spPr>
            <a:xfrm>
              <a:off x="345960" y="4075200"/>
              <a:ext cx="4957920" cy="20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Espace réservé du numéro de diapositive 2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745-9470-4A3B-8043-F8495471B2F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rovement of tissue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Espace réservé de la date 1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Espace réservé du pied de page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CFB-75AE-4ADC-AA25-BCF5CAB0397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720720" y="2228760"/>
            <a:ext cx="146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720720" y="2228760"/>
            <a:ext cx="145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20720" y="222876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6"/>
          <p:cNvSpPr/>
          <p:nvPr/>
        </p:nvSpPr>
        <p:spPr>
          <a:xfrm>
            <a:off x="327672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gmentation result without anatomica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"/>
          <p:cNvPicPr/>
          <p:nvPr/>
        </p:nvPicPr>
        <p:blipFill>
          <a:blip r:embed="rId1"/>
          <a:stretch/>
        </p:blipFill>
        <p:spPr>
          <a:xfrm>
            <a:off x="808200" y="2081160"/>
            <a:ext cx="2163600" cy="1936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3" descr=""/>
          <p:cNvPicPr/>
          <p:nvPr/>
        </p:nvPicPr>
        <p:blipFill>
          <a:blip r:embed="rId2"/>
          <a:stretch/>
        </p:blipFill>
        <p:spPr>
          <a:xfrm>
            <a:off x="3276720" y="2095560"/>
            <a:ext cx="2163600" cy="190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4" descr=""/>
          <p:cNvPicPr/>
          <p:nvPr/>
        </p:nvPicPr>
        <p:blipFill>
          <a:blip r:embed="rId3"/>
          <a:stretch/>
        </p:blipFill>
        <p:spPr>
          <a:xfrm>
            <a:off x="5715000" y="2066760"/>
            <a:ext cx="2370240" cy="19656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5"/>
          <p:cNvSpPr/>
          <p:nvPr/>
        </p:nvSpPr>
        <p:spPr>
          <a:xfrm>
            <a:off x="5715000" y="4114800"/>
            <a:ext cx="25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of anatomical knowledge: improvement of tissue segmentation around putamen and thala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111276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itial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76320" y="1400040"/>
          <a:ext cx="533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00040"/>
                    <a:ext cx="533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. Magnetic resonance imaging (MRI) in brief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08560" y="1447920"/>
            <a:ext cx="361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rain MR image interpre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segmentation (WM, GM, CSF) : intensity level distribu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Noise, partial volume effect, 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structure segmentation (caudate nuclei, ventricules, sulci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knowledge (shape, topology, location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ra/inter-individual vari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ze of data (3D, 2563 voxel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8160" y="2879640"/>
          <a:ext cx="28828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2879640"/>
                    <a:ext cx="28828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4934-BE06-45E6-A39F-1C90A1BD678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tection of cerebral tiss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lineation of the contour of the br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heterogeneous segmentation meth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complementary cooperation sty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tuated specialized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L. Germond, M. Dojat, C.J. Taylor, C. Garbay, A cooperative approach for segmentation of MRI brain scans, Artificial Intelligence in Medicine, 20(1): 77-93 (2000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Espace réservé du numéro de diapositive 1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FB09-E59A-4197-AE1A-F4FFC67B9DE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2278080" cy="280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6724080" y="1517760"/>
            <a:ext cx="2212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rebro-spin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ey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 flipV="1">
            <a:off x="5545080" y="1707840"/>
            <a:ext cx="1170000" cy="654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5792760" y="3276720"/>
            <a:ext cx="92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 flipV="1">
            <a:off x="5915160" y="1708200"/>
            <a:ext cx="799920" cy="13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 flipH="1" flipV="1">
            <a:off x="5915160" y="2557440"/>
            <a:ext cx="923760" cy="32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1" descr="C:\Mes Documents\Laurence\Images GIF\modeleKB.gif"/>
          <p:cNvPicPr/>
          <p:nvPr/>
        </p:nvPicPr>
        <p:blipFill>
          <a:blip r:embed="rId1"/>
          <a:stretch/>
        </p:blipFill>
        <p:spPr>
          <a:xfrm>
            <a:off x="5257800" y="1523880"/>
            <a:ext cx="3139920" cy="1706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:\Mes Documents\Laurence\Images GIF\ArchiOrasis.gif"/>
          <p:cNvPicPr/>
          <p:nvPr/>
        </p:nvPicPr>
        <p:blipFill>
          <a:blip r:embed="rId2"/>
          <a:stretch/>
        </p:blipFill>
        <p:spPr>
          <a:xfrm>
            <a:off x="3886200" y="3886200"/>
            <a:ext cx="4703760" cy="2278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Knowledge model (Lundervold 95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opology-criter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is surrounded by gray matter (GM), itself surrounded by cerebro-spinal fluid (CSF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M can be modeled as a ribbon of approximately 2 mm width. Thus, if a pixel is less than δpixels far from the cortex boundary, it belongs to either GM or CSF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egmentation princi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rtex contour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rey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743-0665-473C-982B-4D20E6B8E9F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9A95-D9AA-4D8A-A255-89A10BC8F0B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 6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2"/>
          <p:cNvSpPr/>
          <p:nvPr/>
        </p:nvSpPr>
        <p:spPr>
          <a:xfrm>
            <a:off x="2697120" y="719280"/>
            <a:ext cx="3017880" cy="3525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123840" y="784080"/>
            <a:ext cx="2462040" cy="33958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C:\Mes Documents\Laurence\contourChehikian.gif"/>
          <p:cNvPicPr/>
          <p:nvPr/>
        </p:nvPicPr>
        <p:blipFill>
          <a:blip r:embed="rId1"/>
          <a:stretch/>
        </p:blipFill>
        <p:spPr>
          <a:xfrm>
            <a:off x="5972040" y="914400"/>
            <a:ext cx="1231920" cy="130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C:\Mes Documents\Laurence\contourDynamique.gif"/>
          <p:cNvPicPr/>
          <p:nvPr/>
        </p:nvPicPr>
        <p:blipFill>
          <a:blip r:embed="rId2"/>
          <a:stretch/>
        </p:blipFill>
        <p:spPr>
          <a:xfrm>
            <a:off x="732780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C:\Mes Documents\Laurence\contourModele.gif"/>
          <p:cNvPicPr/>
          <p:nvPr/>
        </p:nvPicPr>
        <p:blipFill>
          <a:blip r:embed="rId3"/>
          <a:stretch/>
        </p:blipFill>
        <p:spPr>
          <a:xfrm>
            <a:off x="923760" y="25480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C:\Mes Documents\Laurence\coupeSuivante.gif"/>
          <p:cNvPicPr/>
          <p:nvPr/>
        </p:nvPicPr>
        <p:blipFill>
          <a:blip r:embed="rId4"/>
          <a:stretch/>
        </p:blipFill>
        <p:spPr>
          <a:xfrm>
            <a:off x="985680" y="44956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C:\Mes Documents\Laurence\matiereBlanche.gif"/>
          <p:cNvPicPr/>
          <p:nvPr/>
        </p:nvPicPr>
        <p:blipFill>
          <a:blip r:embed="rId5"/>
          <a:stretch/>
        </p:blipFill>
        <p:spPr>
          <a:xfrm>
            <a:off x="4311720" y="2612880"/>
            <a:ext cx="129204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Mes Documents\Laurence\matiereGrise.gif"/>
          <p:cNvPicPr/>
          <p:nvPr/>
        </p:nvPicPr>
        <p:blipFill>
          <a:blip r:embed="rId6"/>
          <a:stretch/>
        </p:blipFill>
        <p:spPr>
          <a:xfrm>
            <a:off x="289548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C:\Mes Documents\Laurence\modeleMoyen.gif"/>
          <p:cNvPicPr/>
          <p:nvPr/>
        </p:nvPicPr>
        <p:blipFill>
          <a:blip r:embed="rId7"/>
          <a:stretch/>
        </p:blipFill>
        <p:spPr>
          <a:xfrm>
            <a:off x="1600200" y="979560"/>
            <a:ext cx="922320" cy="1085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5"/>
          <p:cNvSpPr/>
          <p:nvPr/>
        </p:nvSpPr>
        <p:spPr>
          <a:xfrm>
            <a:off x="184320" y="914400"/>
            <a:ext cx="12934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form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17880" y="955440"/>
            <a:ext cx="25225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gmentation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95740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443556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6095880" y="2873520"/>
            <a:ext cx="800280" cy="52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2031840" y="2023920"/>
            <a:ext cx="0" cy="457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351144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498960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3017880" y="261288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2216160" y="3200400"/>
            <a:ext cx="801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5850000" y="719280"/>
            <a:ext cx="2894040" cy="35258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6465960" y="2220840"/>
            <a:ext cx="0" cy="717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5664240" y="313524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6896160" y="3135240"/>
            <a:ext cx="369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5788080" y="4868640"/>
            <a:ext cx="146664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troac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2"/>
          <p:cNvSpPr/>
          <p:nvPr/>
        </p:nvSpPr>
        <p:spPr>
          <a:xfrm flipH="1">
            <a:off x="3631680" y="4898880"/>
            <a:ext cx="2156040" cy="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3632040" y="3984480"/>
            <a:ext cx="0" cy="9144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4"/>
          <p:cNvSpPr/>
          <p:nvPr/>
        </p:nvSpPr>
        <p:spPr>
          <a:xfrm flipH="1">
            <a:off x="2278080" y="5148360"/>
            <a:ext cx="351000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762120" y="4343400"/>
            <a:ext cx="6896160" cy="1654200"/>
          </a:xfrm>
          <a:prstGeom prst="rect">
            <a:avLst/>
          </a:prstGeom>
          <a:noFill/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6"/>
          <p:cNvSpPr/>
          <p:nvPr/>
        </p:nvSpPr>
        <p:spPr>
          <a:xfrm>
            <a:off x="8004240" y="3919680"/>
            <a:ext cx="0" cy="11095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7"/>
          <p:cNvSpPr/>
          <p:nvPr/>
        </p:nvSpPr>
        <p:spPr>
          <a:xfrm>
            <a:off x="6465960" y="5224320"/>
            <a:ext cx="11160" cy="49068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3882600" y="4543200"/>
            <a:ext cx="1711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same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662640" y="5119560"/>
            <a:ext cx="2085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following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0"/>
          <p:cNvSpPr/>
          <p:nvPr/>
        </p:nvSpPr>
        <p:spPr>
          <a:xfrm>
            <a:off x="6095880" y="5663880"/>
            <a:ext cx="73836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1"/>
          <p:cNvSpPr/>
          <p:nvPr/>
        </p:nvSpPr>
        <p:spPr>
          <a:xfrm>
            <a:off x="4114800" y="3200400"/>
            <a:ext cx="258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7327800" y="1141920"/>
            <a:ext cx="123192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our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6507360" y="5259240"/>
            <a:ext cx="450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44"/>
          <p:cNvSpPr/>
          <p:nvPr/>
        </p:nvSpPr>
        <p:spPr>
          <a:xfrm flipH="1">
            <a:off x="7162920" y="5029200"/>
            <a:ext cx="8380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Espace réservé de la date 4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space réservé du pied de page 4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Espace réservé du numéro de diapositive 4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CE6-57C5-4829-8569-48F46EC8604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 priori knowledge: set of 20 examples, aligned on a common AC-PC pl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Building: manual positioning of landmarks, PC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eatures: robustness, global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33800" y="1447920"/>
            <a:ext cx="3749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otes TF, Hill A, Taylor CJ and Haslam J. The use of active shape models for locating structures in medical images, Im. Vis. Comput. 1995;12:335-365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8DE1-EEAC-40FD-8E00-583F733C66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5"/>
          <p:cNvGrpSpPr/>
          <p:nvPr/>
        </p:nvGrpSpPr>
        <p:grpSpPr>
          <a:xfrm>
            <a:off x="4433760" y="2808360"/>
            <a:ext cx="4232520" cy="2974680"/>
            <a:chOff x="4433760" y="2808360"/>
            <a:chExt cx="4232520" cy="2974680"/>
          </a:xfrm>
        </p:grpSpPr>
        <p:pic>
          <p:nvPicPr>
            <p:cNvPr id="332" name="Picture 11" descr="C:\Mes Documents\Laurence\Images GIF\BrainAvantSrch.gif"/>
            <p:cNvPicPr/>
            <p:nvPr/>
          </p:nvPicPr>
          <p:blipFill>
            <a:blip r:embed="rId1"/>
            <a:stretch/>
          </p:blipFill>
          <p:spPr>
            <a:xfrm>
              <a:off x="4433760" y="2808360"/>
              <a:ext cx="20862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2" descr="C:\Mes Documents\Laurence\Images GIF\BrainApresSrch.gif"/>
            <p:cNvPicPr/>
            <p:nvPr/>
          </p:nvPicPr>
          <p:blipFill>
            <a:blip r:embed="rId2"/>
            <a:stretch/>
          </p:blipFill>
          <p:spPr>
            <a:xfrm>
              <a:off x="6588000" y="2808360"/>
              <a:ext cx="2078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603680" y="5170680"/>
              <a:ext cx="1729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ini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6628680" y="5110200"/>
              <a:ext cx="19746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fi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près dé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5:04:28Z</dcterms:created>
  <dc:creator>Amphi</dc:creator>
  <dc:description/>
  <dc:language>en-US</dc:language>
  <cp:lastModifiedBy>Garbay Catherine</cp:lastModifiedBy>
  <dcterms:modified xsi:type="dcterms:W3CDTF">2013-08-29T06:39:43Z</dcterms:modified>
  <cp:revision>67</cp:revision>
  <dc:subject/>
  <dc:title>Aucun titre de diapositive</dc:title>
</cp:coreProperties>
</file>